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C83C-BCED-4512-A079-77895456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550F-74DA-4F0C-99B4-63C8BDF7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7A051-53C9-45B6-8262-B322C114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6E49A-18C7-4C7C-AB27-92B16435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F5B81-949A-4B1A-B316-515E36B0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2042A-7583-40A1-A432-1A8931EC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FFD99-A728-4C21-AAED-92A0F537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3C988-21D4-437D-B63B-F2D7D1B6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E1B13-B420-4666-A6F6-96F62983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82C7F-C89F-4067-8D89-335AF80C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7021F-0DE1-4D50-9D87-941DB68A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D2DD4-5A78-4C0E-A089-294B67FD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721-768D-4736-BF79-B0B9C8EF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C8B4A-4003-4054-BBED-2D7D0C2C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B8470-14A9-46B3-ADE7-813DD42B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A7657-6A40-4D5A-AD5C-643CC2FE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4CCC2-59E8-46FC-A71A-E5264106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F9056-49DB-49B6-BA8F-9269DD50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EBFA3-F309-46F3-8663-15DF3C47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33F45-F817-40DC-8D8E-6774DBA3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116D1-7CCA-425E-8E1F-51286230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7898E-D9EE-4A6A-84D1-82CBDF1E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4667F-B460-47A4-873E-D0DF9E20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31B8-6E31-4F3D-BB83-453A8810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7EF94-42D1-4D1F-AD52-9B145A8C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2BE38-19D1-484C-A41F-DD535088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4FF2C-B6BC-4B25-B72E-20BBB10D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CE5E2-E18D-4A3C-BD55-66C69E00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34A7A-D06A-4CD9-BF43-21A58018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578E6-F21D-4EAF-9062-824B1812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D9AF6-48D8-42AB-ACEA-A6AD259F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6C857-6863-4BAC-90E0-09AA7847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6AB82-AB9E-4A15-9E3A-5CBD66E2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3CED6-CE04-4FFD-8025-A3AF594E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C899-C1BB-4F0C-B895-E8791C0B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58E5F-DC8F-4DA5-98CD-F7C9941E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0CD1C-FF30-4E16-9047-AD858885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AA594-BD43-4622-ACE8-4458F09E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3DFF9-9112-4B2A-9628-58A18EF2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4D71F-21B2-4403-8407-E68D7999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33B56-C22B-4D41-BC57-F65EB27E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E0D25-456B-45AC-87C3-89105A7B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BE02D-8809-4798-9FDB-055DCE6D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0B916-9F33-4A37-B6C3-5C8CB462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93F48-B91B-4887-9572-501F8731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6DEB-3FFD-41FB-9E97-6E985D6E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7D1E8-D893-48BD-B9DD-B48C90D9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D020A-AE78-46FF-9B72-65CAA1A5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ED117-25CE-4234-B2E1-AA227B34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B11B6-C1A8-4454-8C50-D35C15D2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3C730-2FDF-4294-8932-94306AFF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03262-2CE0-442E-B406-32B4AC35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793A1-43D4-4515-B59C-2E6EB231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F23AA-C2CA-4F1F-AC7F-64444614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0AE6B-C153-49DD-9974-D43B80A0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642B6-A3B7-4106-99C9-7F704A2D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D067-39BA-4831-ADE3-E786A49D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915249-16C4-480B-AABE-D4905A92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8467C-7CD6-44A0-A530-E3933F24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0D0C09-850B-4AD9-BB93-95180FB1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82FA8-6C50-4810-969D-DA282621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E0294-2D68-4265-9AB9-21A5A462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2299B-FDC4-42F5-A38E-784536F2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F962DD-C869-460E-9913-43D54886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E00D38-71B2-481E-83F8-69708DE2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F24B81-1AC1-4636-BEBB-AB900785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DB41D4-8777-4BD8-834D-C8C4EBF9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042A-C89D-4F01-9FB9-1EEE2C55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D36C81-5709-4992-8C8E-F67E4051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FD90C7-7CF6-4D16-816F-065D2DA1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DBA0B4-E323-47AF-A175-A92255C9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6BADB8-4A6F-4C5E-8D9F-C24068F5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F7EC5D-EB2F-4ED0-9C84-20C6453C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0670B7-613F-4101-B7FF-D998C6C6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9DB6D2-D5D5-48E9-85A6-0A12EE7D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84DD2-210A-4386-BD9C-1682D22E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0108D8-E6D6-4EA8-BDCC-A9987BA0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A29541-487F-45C7-AAEF-BAFE09EB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8615-EE72-4076-861C-C9EE167B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A057CB-EAF8-4237-88D8-0D7987F7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CE65E1-1BD7-49B3-8879-1D7B3C80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A3679D-E903-495C-BA17-B8310EE0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62417A-0FDD-4180-A518-EDC4B7C5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B43F9C-2170-4AEB-99DB-60F22C1B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46A8A5-654B-415B-B86D-57C8BEB7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75FCC8-516E-467C-BAFF-99DBB716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9F4D2B-8CA6-403C-8171-BB3AF810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2B245-FFAA-4813-879E-C521FA85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B2A1C5-44E3-4E4C-8523-176366ED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0297-67A2-4A82-AE76-D8DA54D7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75B3AD-FBD4-4198-B99D-BE87B5D0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032FDD-9C3B-43DD-B51F-0A61A765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4CD8B3-D6F4-422C-B3CA-CF883860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9435FE-D1DC-431F-9617-DEFE493E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CC5DE9-21D9-4242-AA9F-2493C409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59553B-5EDA-4ADF-9524-AFD88511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5FF461-6269-49F0-836F-BCEADDD3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56CE40-CCEA-4905-98F9-9EA189DC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B305A5-1A05-4B1C-BEC8-C6128818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490BB1-9263-453F-9E02-540783BB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F68D-AB4F-470E-9C26-06B0AA42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795E73-8ED9-4DF5-9835-331243D0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0A4A83-517A-4C74-9B2A-B369C0AF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1DD2EB-DCD6-4DB6-8666-08AD2F13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FD5B6C-BCB5-4E86-B7AB-263E5882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4EFB3A-85F0-4F34-9121-2332B11D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727A07-D2C2-4BE6-8150-F855C942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44BE7D-B1E4-4329-8ABC-03DE791F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9A2D81-145D-4A48-A0A0-604E5D91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6F7BB0-B9A7-441D-9B7A-6D67A97D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DD7DF8-2437-4586-8259-1A0902A4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3CC-B20E-41F5-AF9C-7598A5E2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3437-F7CA-4C29-9CC4-3C311B15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C44CE3-7071-4DD3-BDAC-95D5B04C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2DBFBA-8AE3-4FB8-B01E-A0B4E3A0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F19F25-8E80-4600-9CB4-7E49F83F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7C44B9-1DD8-463E-B99A-A3722DCD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A7E9C3-255F-4C9A-9D0F-485EB550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2CA940-127C-4E2E-813C-2C2F5027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EA476D-B72D-47BD-9DA7-AA991C0B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91DFFB-6048-4879-91D8-12103EBE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C57619-BB49-4FFE-BF26-09BEE4E0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7CDE26-EDC1-4496-9032-01C26BCF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063F-826D-4BC4-8CC2-F2DD359B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BE8666-AC17-4F47-91C4-071BBAB1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B40BC0-6079-4C9A-8DE2-8A1CD69F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2A8E6E-7B8D-45C2-9480-DA6AF25A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832671-1204-4228-B31F-C29DBB8F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3ACBAF-0E49-4DBF-879E-6FB70E7D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766C7A-9E6E-412A-91B5-CCF5E8BB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FFE392-EF9F-4744-813D-9A7071F3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60C555-D5C4-4AEA-885B-163CD036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4FEFFC-1EE1-48EE-9CA6-5A53E927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568B1F-7257-46C2-A3C8-5F1B836D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1B89-D1BF-409A-954A-E5362B6D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79409A-7D9E-4A9E-AE34-DF97D0D7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C4812F-A3F8-433F-92D6-C0BC27E3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B0910F-9B24-4A35-A15B-E4BF9B97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CEE9DD-3EBE-4187-94C5-4DC3F3B1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95552D-CD41-4119-83FD-83F9C8DA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EEBC02-1F6F-42DD-B920-97BE97C7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FDE718-5D0D-4C2D-B697-0416B659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DCC9C5-4794-49DD-AF83-48677484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32BBE6-5DA1-4D66-8D49-DE3406DE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855EE8-CBDE-4B89-B10D-AAD42734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B320-E2D3-4CE3-8EA1-4E81FF23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25CE62-51ED-490E-9639-699FB003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247786-71EB-452F-9E43-6D53A293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558E77-E1A1-484D-A713-B81B2056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E59399-74FD-4FEB-BC5C-EED07817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98674D-3311-44B8-822D-6191718F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9A9BF3-902C-4D0D-8F79-2E44FF45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1CC98A-A8A7-4BB1-B600-81FD5FB8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266648-2599-4D5C-8333-FE881ABE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D9BDB0-059A-4B40-BB0C-4F6F17C2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A32FDC-F92F-4648-9CC6-8FBB9B71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AA49-16FE-4B86-AE4E-1F172AC5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3183A2-CEA8-44D3-A435-18F2674E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421247-9C69-40D0-A519-D14C0645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072C40-7E01-45FF-9029-CC3AC016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A931D3-2E68-4523-9247-3B7D7DE2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A7B1E5-9B32-4D17-94D4-7F0C8651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CE1C91-D3F6-40DE-BC3A-C69C0F68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7E84D0-B202-4AB8-998F-0CE3EEAD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2678A4-5EAE-46C3-ACA2-E2985ECA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362606-23D4-4DDA-9FCB-ED596A1D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BD1034-7785-4755-BC48-5573C860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5113B-2346-4982-A98B-38DD9D16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98DA76-3DA0-4156-9C6C-8516116E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691C19-777B-455F-B1F6-C0A3BE26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58D962-FB63-4E0E-8636-3F347957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087B76-DEF8-4E01-B47A-68DC32DF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E2A305-6ECD-43AA-B021-63BFE51B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C47662-4D75-491B-9A8B-B93F73C8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5ED490-35DF-4C01-9FB5-86B58AF5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16942B-B65B-4432-838A-AF90EF47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7CF82D-74FE-4B3D-B64E-92677FF2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1BCF5D-E5A1-4569-83B5-A7FE1A85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A3B03-0C49-4861-A8D2-401C6187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E9D959-6579-48EF-813F-D5616ADD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C9FAAE-2C62-4EF0-8E5B-3B54BAFB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565F6D-09CE-4031-A721-ABE886F9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E1D2E4-C378-4863-8BC3-16DDADCC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E582D2-5989-41BB-B9C2-7E33B71C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9D025B-84D6-4AFD-81DE-5FD19BEB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39A8D7-F694-4EEB-A46E-DD95D0BA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355FDE-5819-4403-8C4E-983EAD46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B24304-8DD5-486A-BE55-3B1B5575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F4EAD5-5588-4D03-A724-74D6C71B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8F44C-18F2-4771-93FC-E6EEBBB5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DABF98-7F07-48E2-94DF-C6056F7B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27EBF4-17B4-4435-9AAF-D8B8B6A3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C122FC-76D9-46A9-9F04-78D571CF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49F3A1-D93B-4CA3-A222-BBA9D1D5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325FD8-6F26-4F57-A750-EF9F8EB9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1D115B-89CD-4041-BF4D-207ADB6C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AD6551-565A-42D8-BC0C-C2839B9F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2A856-2BC0-48B3-BC12-D4B6F13B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07A54-7804-4705-B308-E4D1404F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3BF-69E6-43CD-9966-4A228804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96AA7-3CBE-4C4A-82A4-A252E339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9B278-2EC4-4C44-805D-D1093AF7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05243-7CFD-41E1-8FFA-26624A9B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B0B09-511D-4FF2-ADF9-8998BE05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A0601-9601-4A0B-8C14-A5003673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145C4-4D71-4ECC-877A-A94AEBB7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883BB-1BEE-4378-AF4A-FCB2D8DD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7CEB8-1FD9-4509-BA1B-10E388BF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54DA6-CC4F-460A-A4F5-399A5A69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7D9EB-2694-49B1-8876-B6AB1E72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49D-E7FC-4E80-9B9A-58AA5890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04AFA-767D-420F-BBBC-2B5F1585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5424F-40EB-42D9-9614-AF88CBC6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956D5-8533-4099-ABFD-65CA8AD3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6DB86-DD46-42FE-9321-FBFF715A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F310F-636A-46A5-8C78-94862E6A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DD392-6F11-43BB-A22A-64523CAC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3398D-FE2E-434D-AFB1-53B438BE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12C5D-13E1-4EDD-8915-6F29D728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D493D-20D3-420F-97C1-8A003185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95A55-B393-44CF-8D29-2CDD4CAB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D8EE-62A9-4717-8BB1-B2806282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0D881-6C8D-4AA7-A6C8-C10ED950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5EA9E-A12D-4C4D-B50F-3754EF05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E75EF-1C13-4509-BCB9-D755ECCD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7D25B-AA63-4D71-A9FA-CEF836DA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C5B82-E27F-4E81-90A8-723DF73E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7B727-0213-4B29-9968-8C44F50C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920CC-DFF8-4887-B9A2-E19B8284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7E54A-0549-465F-9742-292D62B2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204D8-59D4-45BA-B591-FAC2CDA5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F0BC0-C460-4787-B168-88186F09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959D-5204-4F4E-A1CB-5DE045C8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CE1A7-9872-4078-BA06-B153C46E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7FBE0-F041-4CDB-8F73-610EA3A5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3F60A-FCEE-4E1E-A449-DFC38E00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D100D-19C9-4B02-B69D-B293AC46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56B24-F61B-4D84-BF61-1217381E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14E53-1228-4187-8E3C-98680527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A9F6C-4BC0-47F2-A3B2-6A2039A1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FE34B-D9BA-44D0-8BE6-FE5BAEAF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2EA8A-5802-4BB4-A81B-7E6B6EFE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9287B-00F9-4539-B6A1-F7A952C2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594-3B85-4F3B-9E8A-9C45414F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4FDEA-1D42-4186-B01F-45E8BC8D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3E8F8-1035-4FEE-868D-0D751493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BEDB2-731A-40F8-8F9B-E886E5BF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94E02-E870-4F58-99DF-5200020D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6DDCD-388E-45F5-B24F-6AD73A95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700D2-F58E-4B0E-BAE4-3344A352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B22D6-4702-4C18-BEBE-5E0CCE60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A838F-AE41-4E8B-9468-F7AE8BA6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E4F99-A2AC-4586-9092-8CC73C1C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56D1F-477A-4C99-B0A8-18996FFC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630B-4F4C-4289-91A4-CD166806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5773C-1414-41FD-A0E7-BB767157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DE434-8A48-4708-944F-9FAE658A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05C9A-3256-4F7F-A338-EB668C2B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375E3-6DE9-4010-B00A-7F33DB5C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5F2F1-7F09-4CD5-B6C7-31E3CB82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550EF-CE47-4351-9D9C-A53D121C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8208C-6096-42EC-9BB1-91090002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305D1-9EE0-47CC-9A66-24FFFDFD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64AE6-3CE3-4402-9A84-122A91B8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D4EA8-662A-43CB-B3A9-16874673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9619-CE4E-44A4-A2F6-FE5DC8A2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EE751-4447-4AAC-9D8A-1D4109B2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8F203-1DA9-4E71-9058-6F7CFF64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6BFF0-25FD-4794-871E-20C92698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06E2C-AA68-4A1A-8951-D65B26FB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0BA65-272D-44D9-A903-324851D4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CC1D0-CC41-4373-98F7-FAA22FCA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548FA-CE4B-406C-B1AD-F4D943C4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266D3-A090-4FC9-86BD-7B8EEA57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74A0D-5DC0-4187-B6E0-4E2FA0B6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CDFC4-BF23-45AB-96FE-9399D88D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4BE1-568C-4F0B-B21E-68C73B8A6C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0D06-0414-4DBF-8225-F8F1A46FD4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702B-B591-424B-A763-1A7C163C1E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381E-81C3-4C84-8781-E56A2B8E81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E5DC-DDF5-49BE-8F57-2C8F291EAF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3AE9-6B71-4EF1-B640-1EC7024B10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02DC-959A-460A-A6F8-A59DBD3C36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5B22-8AAC-4BDB-81FC-79DE51B22D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BA48-FC47-45EA-BE7D-03EC10C9C4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E69D-310B-4CB8-8078-FD20CA0ADF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B8D9-2703-4016-9B3E-09CBDBC4C6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F2E6-7F9E-4DAA-B84B-E69A02BFB5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B04F-0E9A-4604-BF3B-F9B449F9E8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F416-867D-4943-95CF-92CF3ECC40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5B77-FB80-4183-83EF-208CA966FF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3AF5-C293-4CF8-8080-98FDBAFC24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AD23-5AB2-4118-89BB-3F0EFBEB97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B23A-4A00-4A90-8AB9-F6FCA1B295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9D3C-86E3-4304-8D18-5E1C17D6C8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99BE-AF32-4427-BD29-C9153681B8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7D3F-9D7E-4CCD-85A7-8116236867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6EBA-D2E3-4804-B061-45D1D56EB5E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529A-6713-4FCA-B490-E7B4AAFA74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50FC-32AE-4CB9-ADAA-6639D4C5A7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D972-9016-4A3B-B073-2FA035936F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1466-E3E9-42F4-BEDB-903E7C3397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8BF0-F99B-4482-84DD-D2DEEE1D3A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6148-6F21-4923-A58F-629039E64E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7E9E-8D00-4FC5-AF44-4668135E88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2557-E015-49D7-99DD-B766ACB543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5EFA-7A79-4B2E-8BD5-791AC7CF67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0A0A-7A92-4A72-8243-42D2AE6226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8664-1B0B-4125-94BB-2FB90EB8F0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6446-02AE-485D-B6DC-DBA22AFDB9E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C694-C816-47EB-9295-9A7625B089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F7FA-ACE7-4D9F-B97F-A8D4095382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234C-97BE-426B-9213-8DF89F9721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45B4-855B-4B10-AB90-702FC08E31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AB09-B3B1-4BEA-B61E-2F3B4FDB8C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A088-4E39-4DFE-9F33-348133B2D4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37DC-679D-4DFC-B58E-6FA029BF70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E9FD-3501-4985-81FC-2F4FDC8B73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900080" y="3090960"/>
            <a:ext cx="534384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7640" y="768240"/>
            <a:ext cx="8999280" cy="401796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79200" y="4786200"/>
            <a:ext cx="7667640" cy="165744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3" descr=""/>
          <p:cNvPicPr/>
          <p:nvPr/>
        </p:nvPicPr>
        <p:blipFill>
          <a:blip r:embed="rId3"/>
          <a:stretch/>
        </p:blipFill>
        <p:spPr>
          <a:xfrm>
            <a:off x="1109520" y="6443640"/>
            <a:ext cx="6924960" cy="3430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250920" y="119700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324000" y="242100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250920" y="321300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324000" y="403380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8"/>
          <a:stretch/>
        </p:blipFill>
        <p:spPr>
          <a:xfrm>
            <a:off x="324000" y="566100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480960" y="2238480"/>
            <a:ext cx="8180280" cy="23810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1979640" y="2646360"/>
            <a:ext cx="720720" cy="2905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3059280" y="3049560"/>
            <a:ext cx="720720" cy="290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2700360" y="3462480"/>
            <a:ext cx="720720" cy="290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2556000" y="3879720"/>
            <a:ext cx="720720" cy="2905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1619280" y="4292640"/>
            <a:ext cx="50472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200160" y="1677960"/>
            <a:ext cx="7818480" cy="1209600"/>
          </a:xfrm>
          <a:prstGeom prst="rect">
            <a:avLst/>
          </a:prstGeom>
          <a:ln w="0">
            <a:noFill/>
          </a:ln>
        </p:spPr>
      </p:pic>
      <p:pic>
        <p:nvPicPr>
          <p:cNvPr id="1122" name="图片 2" descr=""/>
          <p:cNvPicPr/>
          <p:nvPr/>
        </p:nvPicPr>
        <p:blipFill>
          <a:blip r:embed="rId2"/>
          <a:stretch/>
        </p:blipFill>
        <p:spPr>
          <a:xfrm>
            <a:off x="200160" y="2887560"/>
            <a:ext cx="7189560" cy="1648080"/>
          </a:xfrm>
          <a:prstGeom prst="rect">
            <a:avLst/>
          </a:prstGeom>
          <a:ln w="0">
            <a:noFill/>
          </a:ln>
        </p:spPr>
      </p:pic>
      <p:pic>
        <p:nvPicPr>
          <p:cNvPr id="1123" name="图片 3" descr=""/>
          <p:cNvPicPr/>
          <p:nvPr/>
        </p:nvPicPr>
        <p:blipFill>
          <a:blip r:embed="rId3"/>
          <a:stretch/>
        </p:blipFill>
        <p:spPr>
          <a:xfrm>
            <a:off x="7275600" y="3044880"/>
            <a:ext cx="1780920" cy="21812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2411280" y="2089080"/>
            <a:ext cx="1224000" cy="290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5940360" y="2492280"/>
            <a:ext cx="1079640" cy="2905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1979640" y="2914560"/>
            <a:ext cx="1079640" cy="2905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7"/>
          <a:stretch/>
        </p:blipFill>
        <p:spPr>
          <a:xfrm>
            <a:off x="1908000" y="3313080"/>
            <a:ext cx="1079640" cy="2905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8"/>
          <a:stretch/>
        </p:blipFill>
        <p:spPr>
          <a:xfrm>
            <a:off x="971640" y="4140360"/>
            <a:ext cx="10792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1"/>
          <a:stretch/>
        </p:blipFill>
        <p:spPr>
          <a:xfrm>
            <a:off x="125280" y="1090440"/>
            <a:ext cx="4295880" cy="752760"/>
          </a:xfrm>
          <a:prstGeom prst="rect">
            <a:avLst/>
          </a:prstGeom>
          <a:ln w="0">
            <a:noFill/>
          </a:ln>
        </p:spPr>
      </p:pic>
      <p:pic>
        <p:nvPicPr>
          <p:cNvPr id="1130" name="图片 2" descr=""/>
          <p:cNvPicPr/>
          <p:nvPr/>
        </p:nvPicPr>
        <p:blipFill>
          <a:blip r:embed="rId2"/>
          <a:stretch/>
        </p:blipFill>
        <p:spPr>
          <a:xfrm>
            <a:off x="181080" y="1898640"/>
            <a:ext cx="8781840" cy="449424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3"/>
          <a:stretch/>
        </p:blipFill>
        <p:spPr>
          <a:xfrm>
            <a:off x="1692360" y="1897200"/>
            <a:ext cx="934920" cy="2905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4"/>
          <a:stretch/>
        </p:blipFill>
        <p:spPr>
          <a:xfrm>
            <a:off x="4427640" y="1906560"/>
            <a:ext cx="3024000" cy="2905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5"/>
          <a:stretch/>
        </p:blipFill>
        <p:spPr>
          <a:xfrm>
            <a:off x="611280" y="2708280"/>
            <a:ext cx="2448000" cy="2905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6"/>
          <a:stretch/>
        </p:blipFill>
        <p:spPr>
          <a:xfrm>
            <a:off x="5796000" y="2708280"/>
            <a:ext cx="934920" cy="2905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7"/>
          <a:stretch/>
        </p:blipFill>
        <p:spPr>
          <a:xfrm>
            <a:off x="1042920" y="3519360"/>
            <a:ext cx="935280" cy="2905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8"/>
          <a:stretch/>
        </p:blipFill>
        <p:spPr>
          <a:xfrm>
            <a:off x="2700360" y="3529080"/>
            <a:ext cx="934920" cy="2905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9"/>
          <a:stretch/>
        </p:blipFill>
        <p:spPr>
          <a:xfrm>
            <a:off x="2843280" y="4356000"/>
            <a:ext cx="3313080" cy="29052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10"/>
          <a:stretch/>
        </p:blipFill>
        <p:spPr>
          <a:xfrm>
            <a:off x="5364000" y="5157720"/>
            <a:ext cx="1729080" cy="29052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11"/>
          <a:stretch/>
        </p:blipFill>
        <p:spPr>
          <a:xfrm>
            <a:off x="1187280" y="6002280"/>
            <a:ext cx="576360" cy="29052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12"/>
          <a:stretch/>
        </p:blipFill>
        <p:spPr>
          <a:xfrm>
            <a:off x="2987640" y="5997600"/>
            <a:ext cx="576360" cy="29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13"/>
          <a:stretch/>
        </p:blipFill>
        <p:spPr>
          <a:xfrm>
            <a:off x="4427640" y="6002280"/>
            <a:ext cx="57600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35:2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